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30FE-4BDD-4374-A065-0D19BF2A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608-7602-4A63-A2D7-D409D1BC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779-6914-4D0A-B53B-6CD07B07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596-1601-421D-BD7D-DB8841D3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D750-796E-4AE1-B5CD-E55713F4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6CBE-C6BD-4535-9DE2-42827A6C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E749-FF9B-4691-B191-9522904E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FA1E-32FD-48CC-8AB5-DC71B5F1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E7BC-9AF6-4C30-A6DE-EBA9F3BD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4BD9-B8BB-442C-9BCE-E41C85E5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D950-56B5-4047-AB98-66377F34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454-2BD7-49D7-99B0-BB278DDF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FAB8-3589-423D-B042-E17A181E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7118-8388-4E86-A5B7-1DAAE940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83A7-396B-4FE3-A512-E2F1DAD2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D8E0-616A-4D03-9F35-14EE3B26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03A8-7581-44A9-885F-9B101399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BC79-BABA-4006-B5A0-33F27E05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8453-961D-4B2A-A90C-FF053306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1FF-FD87-4C30-8560-2EB80956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2438-92F5-4A44-A750-BA4C1ECB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4D6-F306-4DC0-AA60-207ADAEC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E5B-0A66-4A17-9CDA-CFD225C3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7F5-9384-4513-A5D0-B51C0BDA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731F-C084-402C-8630-6BC2468D42E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40CB-8F2B-48EC-8460-6EBB6AA5D00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Скорость химической реакци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4" descr="рис 33"/>
          <p:cNvPicPr/>
          <p:nvPr/>
        </p:nvPicPr>
        <p:blipFill>
          <a:blip r:embed="rId1"/>
          <a:stretch/>
        </p:blipFill>
        <p:spPr>
          <a:xfrm>
            <a:off x="4572000" y="2819520"/>
            <a:ext cx="4038480" cy="3352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198000"/>
            <a:ext cx="830556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Для увеличения скорости взаимодействия железа с соляной кислотой следует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 добавить ингибит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  понизить температур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  повысить давл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 увеличить концентрацию Н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2" dur="1" fill="hold"/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30556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С бóльшей скоростью идет взаимодействие соляной кислоты с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2971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   C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   M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   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   Z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7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0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381880" cy="26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Для увеличения скорости химической реакции </a:t>
            </a:r>
            <a:br>
              <a:rPr sz="3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Zn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(тв.) + 2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Cl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(г.) =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ZnCl</a:t>
            </a:r>
            <a:r>
              <a:rPr b="1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(тв.) +  Н</a:t>
            </a:r>
            <a:r>
              <a:rPr b="1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необходимо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312372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  увеличить концентрацию водор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  уменьшить давл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  уменьшить температур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  увеличить концентрацию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8" dur="1" fill="hold"/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ри комнатной температуре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с наибольшей скоростью протекает реакция между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5867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  NaOH(р-р) и HCl(р-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  CuO(тв.) и H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р-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  CaC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тв.) и HCl(р-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  Zn(тв.) и H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р-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6" dur="1" fill="hold"/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Для увеличения скорости химической реакции   </a:t>
            </a:r>
            <a:br>
              <a:rPr sz="36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FeO(тв.) + CO(г.)  = Fe(тв.) + CO</a:t>
            </a:r>
            <a:r>
              <a:rPr b="1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(г.) +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необходимо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 увеличить концентрацию С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 уменьшить концентрацию С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 увеличить степень измельчения F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 уменьшить температур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6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4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ри увеличении температуры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от 10 до 30 °С скорость реакции, температурный коэффициент которой 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= 3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2971440"/>
            <a:ext cx="6172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  возрастает в 3 р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  возрастает в 9 ра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  уменьшается в 3 р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  уменьшается в 9 ра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05"/>
          <p:cNvPicPr/>
          <p:nvPr/>
        </p:nvPicPr>
        <p:blipFill>
          <a:blip r:embed="rId1"/>
          <a:stretch/>
        </p:blipFill>
        <p:spPr>
          <a:xfrm>
            <a:off x="457200" y="2209680"/>
            <a:ext cx="241200" cy="343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8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2" dur="1" fill="hold"/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229600" cy="25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Для увеличения скорости химической реакции       </a:t>
            </a:r>
            <a:br>
              <a:rPr sz="36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Zn(тв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) + 2H</a:t>
            </a:r>
            <a:r>
              <a:rPr b="1" lang="ru-RU" sz="30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= Zn</a:t>
            </a:r>
            <a:r>
              <a:rPr b="1" lang="ru-RU" sz="30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+ Н</a:t>
            </a:r>
            <a:r>
              <a:rPr b="1" lang="ru-RU" sz="3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(г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) + </a:t>
            </a:r>
            <a:r>
              <a:rPr b="1" i="1" lang="en-US" sz="30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br>
              <a:rPr sz="30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еобходимо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3123720"/>
            <a:ext cx="86104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 уменьшить концентрацию ионов ци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 увеличить концентрацию ионов водор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 уменьшить температур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 увеличить концентрацию ионов цинк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0" dur="1" fill="hold"/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фотографии 3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4266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Скорость химической реакции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характеризует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 движение молекул или ионов реагирующих  веществ относительно друг друга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 время, за которое заканчивается химическая реакция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 число структурных единиц вещества, вступивших в химическую реакцию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 изменение количеств веществ за единицу времени в единице объ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Единица измерения скорости химической реакции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3429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 л/м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 моль/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 моль/(л · с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 (л · с)/ м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9800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ри повышении температуры реагирующих веществ скорость химической реакции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 уменьш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 увеличив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 не изменя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 изменяется периодиче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ри повышении площади поверхности соприкосновения реагирующих веществ скорость химической реакции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6553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 уменьш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 увеличив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 не изменя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 изменяется периодиче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2" dur="1" fill="hold"/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ри повышении концентрации реагирующих веществ скорость химической реакции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7238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 уменьш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 увеличив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 не изменя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 изменяется периодиче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0" dur="1" fill="hold"/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В случае увеличения давления при реакции газообразных веществ скорость химической реакции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 уменьш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 увеличив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 не изменя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 изменяется периодиче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8" dur="1" fill="hold"/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Для увеличения скорости химической реакции     </a:t>
            </a:r>
            <a:br>
              <a:rPr sz="36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CuS(тв.) + 3O</a:t>
            </a:r>
            <a:r>
              <a:rPr b="1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(г.) = 2CuO(тв.) + 2SO</a:t>
            </a:r>
            <a:r>
              <a:rPr b="1" lang="ru-RU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(г.) +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необходимо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30481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  увеличить концентрацию S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  уменьшить концентрацию S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  уменьшить температуру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  увеличить степень измельчения C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6" dur="1" fill="hold"/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ри обычных условиях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с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именьшей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скоростью происходит взаимодействие между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  Fe и 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 Cu и 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 Zn и HCl (10%-й р-р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 Mg и HCl (10%-й р-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инет химии</cp:lastModifiedBy>
  <dcterms:modified xsi:type="dcterms:W3CDTF">2015-04-10T04:36:3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